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47.jpeg" ContentType="image/jpeg"/>
  <Override PartName="/ppt/media/image50.png" ContentType="image/png"/>
  <Override PartName="/ppt/media/image33.png" ContentType="image/png"/>
  <Override PartName="/ppt/media/image48.png" ContentType="image/png"/>
  <Override PartName="/ppt/media/image11.png" ContentType="image/png"/>
  <Override PartName="/ppt/media/image19.jpeg" ContentType="image/jpeg"/>
  <Override PartName="/ppt/media/image25.png" ContentType="image/png"/>
  <Override PartName="/ppt/media/image51.wmf" ContentType="image/x-wmf"/>
  <Override PartName="/ppt/media/image29.png" ContentType="image/png"/>
  <Override PartName="/ppt/media/image66.png" ContentType="image/png"/>
  <Override PartName="/ppt/media/image64.png" ContentType="image/png"/>
  <Override PartName="/ppt/media/image10.jpeg" ContentType="image/jpeg"/>
  <Override PartName="/ppt/media/image27.jpeg" ContentType="image/jpeg"/>
  <Override PartName="/ppt/media/image52.png" ContentType="image/png"/>
  <Override PartName="/ppt/media/image63.png" ContentType="image/png"/>
  <Override PartName="/ppt/media/image14.png" ContentType="image/png"/>
  <Override PartName="/ppt/media/image2.png" ContentType="image/png"/>
  <Override PartName="/ppt/media/image32.png" ContentType="image/png"/>
  <Override PartName="/ppt/media/image62.png" ContentType="image/png"/>
  <Override PartName="/ppt/media/image28.jpeg" ContentType="image/jpeg"/>
  <Override PartName="/ppt/media/image60.png" ContentType="image/png"/>
  <Override PartName="/ppt/media/image21.jpeg" ContentType="image/jpeg"/>
  <Override PartName="/ppt/media/image65.png" ContentType="image/png"/>
  <Override PartName="/ppt/media/image3.png" ContentType="image/png"/>
  <Override PartName="/ppt/media/image15.png" ContentType="image/png"/>
  <Override PartName="/ppt/media/image24.jpeg" ContentType="image/jpeg"/>
  <Override PartName="/ppt/media/image59.png" ContentType="image/png"/>
  <Override PartName="/ppt/media/image5.jpeg" ContentType="image/jpeg"/>
  <Override PartName="/ppt/media/image61.png" ContentType="image/png"/>
  <Override PartName="/ppt/media/image1.jpeg" ContentType="image/jpeg"/>
  <Override PartName="/ppt/media/image22.jpeg" ContentType="image/jpeg"/>
  <Override PartName="/ppt/media/image26.png" ContentType="image/png"/>
  <Override PartName="/ppt/media/image8.jpeg" ContentType="image/jpeg"/>
  <Override PartName="/ppt/media/image39.jpeg" ContentType="image/jpeg"/>
  <Override PartName="/ppt/media/image17.png" ContentType="image/png"/>
  <Override PartName="/ppt/media/image9.jpeg" ContentType="image/jpe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6.png" ContentType="image/png"/>
  <Override PartName="/ppt/media/image4.png" ContentType="image/png"/>
  <Override PartName="/ppt/media/image7.jpeg" ContentType="image/jpeg"/>
  <Override PartName="/ppt/media/image38.jpeg" ContentType="image/jpeg"/>
  <Override PartName="/ppt/media/image12.png" ContentType="image/png"/>
  <Override PartName="/ppt/media/image49.png" ContentType="image/png"/>
  <Override PartName="/ppt/media/image13.png" ContentType="image/png"/>
  <Override PartName="/ppt/media/image30.png" ContentType="image/png"/>
  <Override PartName="/ppt/media/image31.png" ContentType="image/png"/>
  <Override PartName="/ppt/media/image34.jpeg" ContentType="image/jpeg"/>
  <Override PartName="/ppt/media/image37.png" ContentType="image/png"/>
  <Override PartName="/ppt/media/image35.png" ContentType="image/png"/>
  <Override PartName="/ppt/media/image43.jpeg" ContentType="image/jpeg"/>
  <Override PartName="/ppt/media/image40.png" ContentType="image/png"/>
  <Override PartName="/ppt/media/image41.png" ContentType="image/png"/>
  <Override PartName="/ppt/media/image42.png" ContentType="image/png"/>
  <Override PartName="/ppt/media/image44.png" ContentType="image/png"/>
  <Override PartName="/ppt/media/image45.wmf" ContentType="image/x-wmf"/>
  <Override PartName="/ppt/media/image4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39A201-87DD-4429-963C-84AFD99BF5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F9A97B-5559-45BC-9B21-161D2EC50C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703F46-8CCF-4557-9B5D-F2E474B34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A272B-86E8-49D8-A1A1-8F3D67BB7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ADB3D-77E0-47E6-98DC-EDC323CDF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7C4ACA-7FE0-4815-B7E7-02DE73B46B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DAFBC-CA9C-4030-8A99-4C8B0CDDF5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F220DD-76CF-4289-BA62-6B9A30E269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BCE0A-061B-41E5-ACE4-8DDF8C27B5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796CC0-F69A-4708-A5A9-7304019FC5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60C101-F4EC-43E8-A4F8-9D4A1AC1E7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FE59EA-47C9-41F5-B749-4678312DCB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CE529E-679E-4405-8EC0-9A7E7B0050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CA0C50-683B-46C4-8CF8-49BA1B41CC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326D69-5E0D-4B1F-9F37-9F398D8733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2ED2FB-D612-4145-8F0A-44A0A8EBB1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AD898D-5123-4C72-AACB-8E32EEDF44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C41DD1-142C-47DA-B66A-E107FEA0CC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978DB-A94B-43ED-94A8-5F2DD9ABB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E1403-1EB8-4E5C-8510-843C1FBB57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C06A04-05AE-467E-9DDC-9755574128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79A3E3-C0A3-4440-8412-1A3FCDAF17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B89F3E-A938-4A14-98E5-C6D70F244F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2A1D66-4C57-4FE1-BCF1-8DEF55B348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017133-884A-4A7B-9C1A-F828AAC670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683195-010E-4C6C-A6DF-6BB3E64460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4DF600-B28E-45F0-8FEF-BBBCC0ABF6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DAF6B5-2610-4504-80FC-705F441217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9A6D88-5588-4776-89A1-42F8BA7D5D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810A3-F81F-4C65-A23B-30C8CCB89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00CE6E-BB5E-492F-82BD-AA6B344B24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2C40F9-169F-48E9-894E-A46B41099A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300F6B-34E3-4533-8F3C-7A3AABEEAA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901DDD-B442-47F2-88C6-F288F9C37C5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126838-CA3C-4D38-8648-B11A69E488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0A4CC1-9380-4DA3-9B3D-FF0CDB40C2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E0BBB7-0280-49DF-8DF3-2A3747F5E1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AE5727-06D9-4F80-AD93-3594F6079B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20AEFE-070F-4DEF-B819-A527992294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CB5819-C946-41FA-9EF6-AA929B65C2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9C474-E1DE-46EF-AF77-4CB7B1777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561F60-6344-414A-8CCC-98CDBEC7FB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3B9B15-7997-41B7-A869-120535C512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457698-D00F-49CA-BC0C-1999B257FC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7054C6-973A-48FD-AA9E-7AC6F53B54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563E47-860D-479F-ACDE-017EFFC8A7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A8E438-52CF-476B-9674-6EE80E12392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AB51FB-A309-468F-82F5-A3897DA272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E5523-C651-4E5E-9644-906481F8A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7175-ED72-4D0D-954B-AA6AA3313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5411C-216A-43BC-A4C2-9DB529F4C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8F74-BE67-4441-BF5E-5E844F260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A011-B360-49C5-9687-082F09D1A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2C2F2-0BB4-4D5B-8E96-00BE15F2D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FAA6-9A8D-436C-A03D-021311B7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2B578-1ADD-4FA7-9C03-9887DAC99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915E7-CFDB-4ACE-9936-78FE979A2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E7A1C-A628-4B3C-8BC6-F42893856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86557-624A-47DE-B136-817AB3EB6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466EA-06AA-423E-8695-3251049D5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BAE92-DFE1-4ED4-AE82-A38757C48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217F3-8513-4085-A365-D86ACC8C3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4B310-3C4C-4223-B25F-5A67E896E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38BD0-31D4-4D84-AF4B-08C32B0D2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8C093-926D-4C33-BF2F-2FC4D567D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7A9BF-E58D-42B9-BC2D-073A02CA4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8D8C2-C8ED-4F26-A246-1DC5B68EE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9EB9B-6D9D-4AF1-BFF3-AD1CD7723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7A9EF-5441-4AA9-8668-B0E59BA9B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454224-255D-48C8-9167-DB923AD2F6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70871-7245-4348-91A7-2CE837F74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2C3FA7-41C7-4D8B-B94D-BD3A653BF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DEC2DF-8DB7-414B-B97B-AC9257A05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7EBA1-DB26-4D86-8228-75D7B8EE6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3DE83-60CF-41E0-A05E-CEE539779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8A907-DE9C-40F8-8A07-6FCA5392C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3F536-AFA0-405E-81AD-DF093D336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CCBA9-9D21-4610-959F-150F31017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6F286B-78BD-44C8-B865-B60219098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9407EF-9C72-419F-A419-D4F24B4788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BFB50A-57E7-460E-BB19-927BD1D1E2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0FAFB2-D0E7-49D6-88BB-642B479DDB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A76F58-D539-420A-BCCE-B4B17FEAE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ED0A4-D064-4C1D-A5E5-38F5C87AA7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79B97-853D-493C-B2A6-8FFC1EFBEF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7166C-ECF4-461D-8172-E3B3D3DAF7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A6021D-415C-47DE-9353-7C56FE462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96153-6467-40B7-AB23-7A134E79E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D6043-8AFB-4D12-BFB4-1A20B5A00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BB1EB-C626-480D-BF94-4A54B24553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F1DA1-A5DA-40F5-B90D-F6CCE4AB6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E551FE-C5BA-4004-9EEA-F80C0B83F2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89D4D3-FBDC-44F9-AAB3-6AE8E2B614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2C8262-6A48-4D41-97DB-6383A87C50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EC4BA2-2D00-4F96-983A-C51134E30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13B2A5-EBF5-46EA-B75C-2C9975615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44A9F2-B8CC-4683-B4FD-2964EF4FF6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37EB1D-8AAB-4C54-91E0-FC2C01D20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2B9080-3DE9-4B38-B71E-C35CA58AC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576FB-5BAE-4D59-A422-E74145A9E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37D3D-6B72-477B-BC41-DAB66F1DA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4A114-F0DC-48A6-8E5D-CF4863FDA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224910-6D9F-462D-A794-9C04D5FD83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CC2AC9-B809-42B0-A15A-71CB629194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B338B3-8734-4EF7-9F53-B870F9A419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4497E0-3DF6-413F-A118-491CB8147B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56E60-EB80-4FBF-9778-711736A45C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8A3EC5-F0E6-40C4-94AF-C28410042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471B44-4A88-4122-8D0B-EC9F55B5B7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1DCD21-7B99-4F67-8DD4-27F11C3A7E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EF9F5-E40A-4767-97B5-6A6F8AB4D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412EDF-9C9D-424F-AB14-B636D6C19E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3470E-CC39-4A53-BC5B-0F781244F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3F708-19C4-4906-9608-C968D9857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1AA1F-902B-4684-9527-B987B0046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DBBAF5-5245-4C2F-B0B3-75A52B0A06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7547B1-2D22-4D1E-BAD5-E486B4166B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BF1342-4D21-48A0-93A5-0957DBE206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2E93E8-009D-4ADC-9873-2F4ACED1E9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270C2F-E0CA-4893-AD08-5551535FD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401DB1-403C-454B-8FD5-E66439629E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C4E2BC-8388-48EA-AFCC-8C8D15169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5731DC-B6A5-48C9-A2FE-845C6D47D8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CB7AC5-D5A7-4F65-A68B-DED8441E7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32B58B-2DB1-4AF8-B152-530E95080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98CCB8-2045-42C6-BD77-D853F282F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FCFE9-98EF-4D70-B33E-D495A45639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82F957-040E-4E8C-80B0-DF4DA269FC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269A5F-E1FE-4395-8FE5-6BE5EE8A9D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A101A7-63C1-4370-AE23-9FAB330976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DB94C4-832B-48A0-91F4-63AC064E63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B498E3-24C4-4053-B395-66E725FB38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14.xml"/><Relationship Id="rId4" Type="http://schemas.openxmlformats.org/officeDocument/2006/relationships/slide" Target="slide29.xml"/><Relationship Id="rId5" Type="http://schemas.openxmlformats.org/officeDocument/2006/relationships/slide" Target="slide2.xml"/><Relationship Id="rId6" Type="http://schemas.openxmlformats.org/officeDocument/2006/relationships/slide" Target="slide3.xml"/><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 Target="slide1.xml"/><Relationship Id="rId11" Type="http://schemas.openxmlformats.org/officeDocument/2006/relationships/image" Target="../media/image5.jpeg"/><Relationship Id="rId12" Type="http://schemas.openxmlformats.org/officeDocument/2006/relationships/image" Target="../media/image6.png"/><Relationship Id="rId13" Type="http://schemas.openxmlformats.org/officeDocument/2006/relationships/slideLayout" Target="../slideLayouts/slideLayout109.xml"/><Relationship Id="rId14" Type="http://schemas.openxmlformats.org/officeDocument/2006/relationships/slideLayout" Target="../slideLayouts/slideLayout110.xml"/><Relationship Id="rId15" Type="http://schemas.openxmlformats.org/officeDocument/2006/relationships/slideLayout" Target="../slideLayouts/slideLayout111.xml"/><Relationship Id="rId16" Type="http://schemas.openxmlformats.org/officeDocument/2006/relationships/slideLayout" Target="../slideLayouts/slideLayout112.xml"/><Relationship Id="rId17" Type="http://schemas.openxmlformats.org/officeDocument/2006/relationships/slideLayout" Target="../slideLayouts/slideLayout113.xml"/><Relationship Id="rId18" Type="http://schemas.openxmlformats.org/officeDocument/2006/relationships/slideLayout" Target="../slideLayouts/slideLayout114.xml"/><Relationship Id="rId19" Type="http://schemas.openxmlformats.org/officeDocument/2006/relationships/slideLayout" Target="../slideLayouts/slideLayout115.xml"/><Relationship Id="rId20" Type="http://schemas.openxmlformats.org/officeDocument/2006/relationships/slideLayout" Target="../slideLayouts/slideLayout116.xml"/><Relationship Id="rId21" Type="http://schemas.openxmlformats.org/officeDocument/2006/relationships/slideLayout" Target="../slideLayouts/slideLayout117.xml"/><Relationship Id="rId22" Type="http://schemas.openxmlformats.org/officeDocument/2006/relationships/slideLayout" Target="../slideLayouts/slideLayout118.xml"/><Relationship Id="rId23" Type="http://schemas.openxmlformats.org/officeDocument/2006/relationships/slideLayout" Target="../slideLayouts/slideLayout119.xml"/><Relationship Id="rId2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3"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4"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5"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6"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7"/>
          <a:stretch/>
        </p:blipFill>
        <p:spPr>
          <a:xfrm>
            <a:off x="4059360" y="6407280"/>
            <a:ext cx="3457440" cy="334800"/>
          </a:xfrm>
          <a:prstGeom prst="rect">
            <a:avLst/>
          </a:prstGeom>
          <a:ln w="0">
            <a:noFill/>
          </a:ln>
        </p:spPr>
      </p:pic>
      <p:pic>
        <p:nvPicPr>
          <p:cNvPr id="358" name="9 Rectángulo" descr=""/>
          <p:cNvPicPr/>
          <p:nvPr/>
        </p:nvPicPr>
        <p:blipFill>
          <a:blip r:embed="rId8"/>
          <a:stretch/>
        </p:blipFill>
        <p:spPr>
          <a:xfrm>
            <a:off x="6566040" y="122400"/>
            <a:ext cx="2797200" cy="334800"/>
          </a:xfrm>
          <a:prstGeom prst="rect">
            <a:avLst/>
          </a:prstGeom>
          <a:ln w="0">
            <a:noFill/>
          </a:ln>
        </p:spPr>
      </p:pic>
      <p:pic>
        <p:nvPicPr>
          <p:cNvPr id="359" name="10 Rectángulo" descr=""/>
          <p:cNvPicPr/>
          <p:nvPr/>
        </p:nvPicPr>
        <p:blipFill>
          <a:blip r:embed="rId9"/>
          <a:stretch/>
        </p:blipFill>
        <p:spPr>
          <a:xfrm>
            <a:off x="6566040" y="480960"/>
            <a:ext cx="2869920" cy="336600"/>
          </a:xfrm>
          <a:prstGeom prst="rect">
            <a:avLst/>
          </a:prstGeom>
          <a:ln w="0">
            <a:noFill/>
          </a:ln>
        </p:spPr>
      </p:pic>
      <p:pic>
        <p:nvPicPr>
          <p:cNvPr id="360" name="11 Imagen" descr="20081124094235icono20inicio.jpg">
            <a:hlinkClick r:id="rId10" action="ppaction://hlinksldjump"/>
          </p:cNvPr>
          <p:cNvPicPr/>
          <p:nvPr/>
        </p:nvPicPr>
        <p:blipFill>
          <a:blip r:embed="rId11"/>
          <a:stretch/>
        </p:blipFill>
        <p:spPr>
          <a:xfrm>
            <a:off x="8572680" y="6072120"/>
            <a:ext cx="452160" cy="452520"/>
          </a:xfrm>
          <a:prstGeom prst="rect">
            <a:avLst/>
          </a:prstGeom>
          <a:ln w="0">
            <a:noFill/>
          </a:ln>
        </p:spPr>
      </p:pic>
      <p:pic>
        <p:nvPicPr>
          <p:cNvPr id="361" name="12 Rectángulo" descr=""/>
          <p:cNvPicPr/>
          <p:nvPr/>
        </p:nvPicPr>
        <p:blipFill>
          <a:blip r:embed="rId12"/>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3"/>
    <p:sldLayoutId id="2147483767" r:id="rId14"/>
    <p:sldLayoutId id="2147483768" r:id="rId15"/>
    <p:sldLayoutId id="2147483769" r:id="rId16"/>
    <p:sldLayoutId id="2147483770" r:id="rId17"/>
    <p:sldLayoutId id="2147483771" r:id="rId18"/>
    <p:sldLayoutId id="2147483772" r:id="rId19"/>
    <p:sldLayoutId id="2147483773" r:id="rId20"/>
    <p:sldLayoutId id="2147483774" r:id="rId21"/>
    <p:sldLayoutId id="2147483775" r:id="rId22"/>
    <p:sldLayoutId id="2147483776" r:id="rId23"/>
    <p:sldLayoutId id="2147483777" r:id="rId2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286F-A04C-413E-B295-A7B78D4725A6}"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BF63-BD0E-4039-8A66-8B4AA0E11CEF}"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FD90-B3CB-48D9-B527-3FE973E01CFC}"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3279-C7AC-4AA0-9C3A-913591EA187C}"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D699-3836-4045-883B-B2D037D08BBC}"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05FD-18DC-446A-A61D-DAB0C36C4190}"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9411-E247-49C6-9383-3198918EA482}"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FB9E-1C3F-4AB7-9A8A-535CC663237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175A-9A20-42EA-A98E-F917A70E9F5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9038-E02A-4457-BFA4-22D413A166E3}"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EA7E-C1E7-47BB-85AB-92EE8D31726A}"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61.png"/><Relationship Id="rId5" Type="http://schemas.openxmlformats.org/officeDocument/2006/relationships/image" Target="../media/image58.png"/><Relationship Id="rId6" Type="http://schemas.openxmlformats.org/officeDocument/2006/relationships/image" Target="../media/image57.png"/><Relationship Id="rId7"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0.png"/><Relationship Id="rId3"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2"/>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7"/>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3"/>
          <a:stretch/>
        </p:blipFill>
        <p:spPr>
          <a:xfrm>
            <a:off x="3486240" y="2755800"/>
            <a:ext cx="689040" cy="378000"/>
          </a:xfrm>
          <a:prstGeom prst="rect">
            <a:avLst/>
          </a:prstGeom>
          <a:ln w="0">
            <a:noFill/>
          </a:ln>
        </p:spPr>
      </p:pic>
      <p:pic>
        <p:nvPicPr>
          <p:cNvPr id="661" name="6 Rectángulo" descr=""/>
          <p:cNvPicPr/>
          <p:nvPr/>
        </p:nvPicPr>
        <p:blipFill>
          <a:blip r:embed="rId4"/>
          <a:stretch/>
        </p:blipFill>
        <p:spPr>
          <a:xfrm>
            <a:off x="4913280" y="2755800"/>
            <a:ext cx="689040" cy="378000"/>
          </a:xfrm>
          <a:prstGeom prst="rect">
            <a:avLst/>
          </a:prstGeom>
          <a:ln w="0">
            <a:noFill/>
          </a:ln>
        </p:spPr>
      </p:pic>
      <p:pic>
        <p:nvPicPr>
          <p:cNvPr id="662" name="7 Rectángulo" descr=""/>
          <p:cNvPicPr/>
          <p:nvPr/>
        </p:nvPicPr>
        <p:blipFill>
          <a:blip r:embed="rId5"/>
          <a:stretch/>
        </p:blipFill>
        <p:spPr>
          <a:xfrm>
            <a:off x="6261120" y="3108240"/>
            <a:ext cx="712800" cy="378000"/>
          </a:xfrm>
          <a:prstGeom prst="rect">
            <a:avLst/>
          </a:prstGeom>
          <a:ln w="0">
            <a:noFill/>
          </a:ln>
        </p:spPr>
      </p:pic>
      <p:pic>
        <p:nvPicPr>
          <p:cNvPr id="663" name="8 Rectángulo" descr=""/>
          <p:cNvPicPr/>
          <p:nvPr/>
        </p:nvPicPr>
        <p:blipFill>
          <a:blip r:embed="rId6"/>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4-23T18:53:57Z</dcterms:modified>
  <cp:revision>75</cp:revision>
  <dc:subject/>
  <dc:title>Diapositiva 1</dc:title>
</cp:coreProperties>
</file>